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F0A-1500-44B9-BB88-79A776C0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8FB-1CC1-4495-A5D6-1766942E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AF3-D0C9-4B41-BCF8-2048861B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8E1-A45E-4C28-A76D-868099C1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F17B-D9CB-4FCE-BC53-39C7FBA7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948E-7798-40FB-9C19-96251E03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1DF5-7FDF-453E-A6EB-1D256227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75FA-2AB4-4C30-9831-671B2DAE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AF5C-FC3C-4075-A6EE-9DF75DB2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7F51-76AC-4A93-B563-ABBCA7BD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B648-0682-4CE8-8148-5870A3D1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D9E-79F9-4D12-8A03-8DF7B6C3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D1D4-F42B-4F3E-90F1-0922F6DA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9F29-EE29-432D-8DC2-2285DDF7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19BE-AF22-4DDB-A8DD-6FBF1204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9077-5121-42E1-9915-3EAEBAC6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B8B5-EE09-45B7-8ACE-180590E0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841C-6735-47E1-BA40-69303B6B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1F8-2652-4425-BB81-8BBCFD72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B6E-1F09-451A-B76A-B5184B41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9C8-8550-44AD-8F4E-E2141D14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73D7-B508-410D-A6F5-2E4FA367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DE9E-4C7F-4B07-A416-A5F3CE11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B30-C7A8-4E40-BFAC-EE6C74AA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C036-EC53-4883-AFF4-32A281DACE3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3260-CA55-4502-8C9B-B42231270A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un time is Englis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pt. 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sister wants to become and industrial engineer, shes gonna write to the institute of industrial engineers in norcross georgia for more inform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dent:Mammal::human: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athetic:Emotion::________:b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swer Ke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sister wants to become and industrial engineer.  She’s going to write to the Institute of Industrial Engineers in Norcross, Georgia, for more inform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ing promp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agine you were shipwrecked on an island. What do you think you would need to survi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ost Dangerous Ga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g. 2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09:01Z</dcterms:created>
  <dc:creator>student</dc:creator>
  <dc:description/>
  <dc:language>en-US</dc:language>
  <cp:lastModifiedBy>student</cp:lastModifiedBy>
  <dcterms:modified xsi:type="dcterms:W3CDTF">2010-09-03T15:27:05Z</dcterms:modified>
  <cp:revision>2</cp:revision>
  <dc:subject/>
  <dc:title>Fun time is English</dc:title>
</cp:coreProperties>
</file>